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DDFF-A045-4C0D-BE21-C25DB01D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1B6-ED7C-4BD7-A432-5807C3B2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240-3CCE-44FB-AB97-7AA912B2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7399-72D5-4168-B197-8438CF3B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77B-6252-4F1E-B1DF-E6E4A261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ECD3-7C2F-48C1-B7C0-993502EB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15B-2194-4A2B-8CE4-402ED317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88E-4A61-4735-A191-4439386F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3DF-03A3-4954-8449-8EDEE3C6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A0E-F5CF-4902-BBF1-D9BFC04B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700-51DC-4FB7-892B-58D34A5D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BE5D-9C78-432B-8C1E-E91545EE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D2EB-F352-46C1-AB9B-AFEE0ACC5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LICEO ECONOMICO EUROP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Nei corsi di Scienze della materia e scienze della Natura, si propone di utilizzare un monte ore minimo di 15 ore per tematiche relative a contenuti concettuali di seguito illustrati, da considerarsi comuni o paralleli alle due discipline e validi per i due anni di corso nel biennio. Per questo motivo è indispensabile un uso comune del laboratorio in compresenza nelle diverse classi. Per il biennio le attività di laboratorio costituiscono un complemento della chimica e fisica di base, la possibilità di usare strumenti e attrezzature,e di effettuare rilevamenti applicati allo studio dell’ambiente.Quando possibile, sarà presentato uno schema semplificato dell’argomento in inglese, effettuata una ricerca in rete ed utilizzato il software disponib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Console"/>
              </a:rPr>
              <a:t>ATTIVITA’ DI LABORATORIO IN COMPRESEN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Uso di semplici strumenti di mis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Uso di strumenti di osservazione microscop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Uso corretto dell’attrezzatura in do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Uso di sussidi didattici (audiovisivi, modelli ec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Esame di campioni (rocce, suolo, vegetali, e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nterpretazione e rielaborazione dati attraverso grafici, tabelle, rel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ettura e interpretazione di c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Uso del software disponibile, ricerca in 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Esecuzione di semplici analisi tecnologiche su fattori ambientali , prodotti o ali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Lucida Console"/>
              </a:rPr>
              <a:t>OBIETTIVI MINISTERIALI   OBIETTIVI NUOVO CORS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Lucida Console"/>
              </a:rPr>
              <a:t>               (AGGIUNTIVI E INTEGRATIVI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mprendere i concetti fondamentali delle Scienze, mettendone in rilievo le relazioni e le interdipenden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viluppare la capacità di analisi, sintesi e rielaborazione delle informazioni desunte dall’osservazione e dalla sperim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nire strumenti per una corretta interpretazione della realtà e del contesto chimico-fisico-ambien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0" y="21333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rasmettere inform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mparare ad osservare e a riflettere, a porsi delle domande,a fare delle ipotesi e a verificar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cquisire abilità (conoscitive ed operative) utili nello studio di altre discipline e nella vita di tutti i gio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1981080"/>
            <a:ext cx="29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9051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2438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267080" y="35049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114800" y="52574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Console"/>
              </a:rPr>
              <a:t>Comprendere gli aspetti geologici e geofisici che si riflettono direttamente sulla vita dell’uomo, con i nessi tra mondo abiotico e bio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Console"/>
              </a:rPr>
              <a:t>Contribuire ad acquisire un linguaggio corretto e sinte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Console"/>
              </a:rPr>
              <a:t>Contribuire ad acquisire una visione organica della real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Console"/>
              </a:rPr>
              <a:t>Comprendere le connessioni tra viventi del pianeta e tra viventi ed ambiente fi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Console"/>
              </a:rPr>
              <a:t>Comprendere il valore della biodivers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Console"/>
              </a:rPr>
              <a:t>Conoscere, comprendere ed interpretare le modificazioni e i problemi ambientali introdotti dall’uo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809880" y="259056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aper avanzare ipotesi e saperne verificare la valid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Descrivere ed interpretare fenome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viluppare la capacità di acquisizione e rielaborazione critica dell’informazione fornita dalla comunicazione scritta, orale e vis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tribuire ad acquisire una coscienza ecologica ed un comportamento individuale e collettivo corretto verso l’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oscere le ultime scoperte scientifiche che hanno modificato la vita dell’uo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sercitare un’analisi critica sull’informazione scientifica che giunge dai mass media e in genere fuori dall’ambiente scola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09880" y="571500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Console"/>
              </a:rPr>
              <a:t>CONTENUTI MINISTERIALI IGEA (CORSO BIENNAL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Times New Roman"/>
              </a:rPr>
              <a:t>SCIENZE MA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rietà della ma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ia e trasform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stanze e comp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ttric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ze,tecnologia e società(risorse, prodotti tecnologici, smaltimento rifiu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66"/>
                </a:solidFill>
                <a:uFillTx/>
                <a:latin typeface="Times New Roman"/>
              </a:rPr>
              <a:t>SCIENZE N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ra nello spaz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ro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mosfera e cl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tosfera e dinamica endog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biente e organ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ificazione viv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ula e pluricellul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ol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 molecole della v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uttura e funzioni delle cell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produzione e gene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stemi d’integrazione nell’uo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’integrazione nella bio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CONTENUTI CONCETTUALI NUOV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IN AGGIUNTA AL PERCORSO SCELTO TRA QUELLI MINISTERIA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it-IT" sz="1400" spc="-1" strike="noStrike">
                <a:solidFill>
                  <a:srgbClr val="000000"/>
                </a:solidFill>
                <a:latin typeface="Lucida Console"/>
              </a:rPr>
              <a:t>BIOTECNOLOG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Console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Lucida Console"/>
              </a:rPr>
              <a:t>OG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0" lang="it-IT" sz="1800" spc="-1" strike="noStrike">
                <a:solidFill>
                  <a:srgbClr val="ff0066"/>
                </a:solidFill>
                <a:latin typeface="Lucida Console"/>
              </a:rPr>
              <a:t>SCIENZE MA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Console"/>
              </a:rPr>
              <a:t>PRODOTTI SINTET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Console"/>
              </a:rPr>
              <a:t>E MATERIE PLASTICH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Console"/>
              </a:rPr>
              <a:t>LA CHIMICA TRA SVILU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Console"/>
              </a:rPr>
              <a:t>ED EQUILIBRIO AMBIENT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it-IT" sz="1400" spc="-1" strike="noStrike">
                <a:solidFill>
                  <a:srgbClr val="000000"/>
                </a:solidFill>
                <a:latin typeface="Lucida Console"/>
              </a:rPr>
              <a:t>LE ULTIME SCOPERTE TECNOLOG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it-IT" sz="1400" spc="-1" strike="noStrike">
                <a:solidFill>
                  <a:srgbClr val="000000"/>
                </a:solidFill>
                <a:latin typeface="Lucida Console"/>
              </a:rPr>
              <a:t>E IL LORO IMPA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Console"/>
              </a:rPr>
              <a:t>RIPRODUZIONE E CENNI DI FISIOLO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Console"/>
              </a:rPr>
              <a:t>UMANA, MALATTIE   PATOLOGIE E SCOPERT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Lucida Console"/>
              </a:rPr>
              <a:t>ATTU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it-IT" sz="1800" spc="-1" strike="noStrike">
                <a:solidFill>
                  <a:srgbClr val="ff0066"/>
                </a:solidFill>
                <a:latin typeface="Lucida Console"/>
              </a:rPr>
              <a:t>SCIENZE N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Lucida Console"/>
              </a:rPr>
              <a:t>RISORSE  E  LORO US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Lucida Console"/>
              </a:rPr>
              <a:t>REALTA’ LOC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Console"/>
              </a:rPr>
              <a:t>LE  MOLECOLE  INTRODOTTE DALL’UO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Console"/>
              </a:rPr>
              <a:t>NELL’ATMOSFERA E  NELLE  AC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Console"/>
              </a:rPr>
              <a:t>COME L’UOMO MODIFICA  L’AMB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Lucida Console"/>
              </a:rPr>
              <a:t>IL PROBLEMA RIFIU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2438280"/>
            <a:ext cx="2362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362320"/>
            <a:ext cx="2514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200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4572000"/>
            <a:ext cx="2590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33560" y="29718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85800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0481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28640" y="1981080"/>
            <a:ext cx="2133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676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3200400"/>
            <a:ext cx="1752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429000" y="3124080"/>
            <a:ext cx="23623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1371600"/>
            <a:ext cx="17524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3352680"/>
            <a:ext cx="25909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5562720"/>
            <a:ext cx="21337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5181480"/>
            <a:ext cx="26668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4267080"/>
            <a:ext cx="411480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352680"/>
            <a:ext cx="304812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914400"/>
            <a:ext cx="388620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0T18:24:36Z</dcterms:created>
  <dc:creator>.</dc:creator>
  <dc:description/>
  <dc:language>en-US</dc:language>
  <cp:lastModifiedBy>.</cp:lastModifiedBy>
  <dcterms:modified xsi:type="dcterms:W3CDTF">2004-03-21T12:30:18Z</dcterms:modified>
  <cp:revision>2</cp:revision>
  <dc:subject/>
  <dc:title>LICEO ECONOMICO EUROPEO</dc:title>
</cp:coreProperties>
</file>